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CDA-E02F-452B-8B0F-6E162FA1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6922-EFF9-4424-9753-E524445B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65F-3DBB-4D48-8358-250F5E83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022-C8C3-46B5-997F-967B5419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BE3-AF4B-44F7-8CC5-143C81C6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7DF-BE75-41E2-BE3A-BC52056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A9E-90BB-407E-9DC3-ACBA304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358-6FC1-4359-8316-D82FDC01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DE5-FBA2-4561-B3C7-538A00CD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18C-BE2C-42F6-8874-23378D41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6E5-CFAC-4D51-9517-A495E4B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991-5D6F-44FF-8C8A-0DC760CA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9209-B32F-4C01-8DF1-20CE6BF2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timeinc.net/time/time100/images/main_freud.jpg&amp;imgrefurl=http://random.splinder.com/archive/2006-05&amp;h=250&amp;w=376&amp;sz=13&amp;hl=en&amp;start=2&amp;tbnid=d6U5nk-GHAketM:&amp;tbnh=81&amp;tbnw=122&amp;prev=/images%3Fq%3Dfreud%26svnum%3D10%26hl%3Den%26lr%3D%26rls%3DHPIA,HPIA:2005-33,HPIA: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onnawilliams.net/index.php?eID=tx_cms_showpic&amp;file=uploads%2Fpics%2Fdonna_williams_051.jpg&amp;width=800m&amp;height=600m&amp;bodyTag=%3Cbody%20bgcolor%3D%22black%22%3E&amp;wrap=%3Ca%20href%3D%22javascript%3Aclose%28%29%3B%22%3E%20%7C%20%3C%2Fa%3E&amp;md5=d7086274844be557a250958c4f0df366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hyperlink" Target="http://www.donnawilliams.net/index.php?eID=tx_cms_showpic&amp;file=uploads%2Fpics%2Fdonna_williams_052.jpg&amp;width=800m&amp;height=600m&amp;bodyTag=%3Cbody%20bgcolor%3D%22black%22%3E&amp;wrap=%3Ca%20href%3D%22javascript%3Aclose%28%29%3B%22%3E%20%7C%20%3C%2Fa%3E&amp;md5=6007d9060cc89cd7f9480257b435cb56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donnawilliams.net/Gallery/slides/Bouquet.php" TargetMode="External"/><Relationship Id="rId3" Type="http://schemas.openxmlformats.org/officeDocument/2006/relationships/image" Target="../media/image18.jpeg"/><Relationship Id="rId4" Type="http://schemas.openxmlformats.org/officeDocument/2006/relationships/hyperlink" Target="http://www.donnawilliams.net/Gallery/slides/Breach%20of%20Security.php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www.donnawilliams.net/Gallery/slides/Briskly.php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donnawilliams.net/Gallery/slides/Becoming.php" TargetMode="External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donnawilliams.net/index.php?eID=tx_cms_showpic&amp;file=uploads%2Fpics%2Fdonna_williams_051.jpg&amp;width=800m&amp;height=600m&amp;bodyTag=%3Cbody%20bgcolor%3D%22black%22%3E&amp;wrap=%3Ca%20href%3D%22javascript%3Aclose%28%29%3B%22%3E%20%7C%20%3C%2Fa%3E&amp;md5=d7086274844be557a250958c4f0df366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donnawilliams.net/index.php?eID=tx_cms_showpic&amp;file=uploads%2Fpics%2Fdonna_williams_050.jpg&amp;width=800m&amp;height=600m&amp;bodyTag=%3Cbody%20bgcolor%3D%22black%22%3E&amp;wrap=%3Ca%20href%3D%22javascript%3Aclose%28%29%3B%22%3E%20%7C%20%3C%2Fa%3E&amp;md5=7eda9f1270f1e1405b6ef4e752d1dc1e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donnawilliams.net/index.php?eID=tx_cms_showpic&amp;file=uploads%2Fpics%2Fdonna_williams_052.jpg&amp;width=800m&amp;height=600m&amp;bodyTag=%3Cbody%20bgcolor%3D%22black%22%3E&amp;wrap=%3Ca%20href%3D%22javascript%3Aclose%28%29%3B%22%3E%20%7C%20%3C%2Fa%3E&amp;md5=6007d9060cc89cd7f9480257b435cb56" TargetMode="External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16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Module 1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Sylfaen"/>
              </a:rPr>
              <a:t>Discovering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304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General Ps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ain_freu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133720"/>
            <a:ext cx="2714400" cy="180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richdiesslin_pavlovs_dog"/>
          <p:cNvPicPr/>
          <p:nvPr/>
        </p:nvPicPr>
        <p:blipFill>
          <a:blip r:embed="rId3"/>
          <a:stretch/>
        </p:blipFill>
        <p:spPr>
          <a:xfrm>
            <a:off x="5334120" y="2666880"/>
            <a:ext cx="3262320" cy="32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MASLOW"/>
          <p:cNvPicPr/>
          <p:nvPr/>
        </p:nvPicPr>
        <p:blipFill>
          <a:blip r:embed="rId4"/>
          <a:stretch/>
        </p:blipFill>
        <p:spPr>
          <a:xfrm>
            <a:off x="2209680" y="4114800"/>
            <a:ext cx="2819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elix Titling"/>
              </a:rPr>
              <a:t>Humanistic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asizes that each individual has great freedom in directing his or her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81280" y="49528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na: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FIGHT AUTISM…I WILL CONTROL IT…IT WILL NOT CONTROL 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litt53a"/>
          <p:cNvPicPr/>
          <p:nvPr/>
        </p:nvPicPr>
        <p:blipFill>
          <a:blip r:embed="rId1"/>
          <a:stretch/>
        </p:blipFill>
        <p:spPr>
          <a:xfrm>
            <a:off x="457200" y="2666880"/>
            <a:ext cx="2795760" cy="304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hoto_gb-individuality_01_image"/>
          <p:cNvPicPr/>
          <p:nvPr/>
        </p:nvPicPr>
        <p:blipFill>
          <a:blip r:embed="rId2"/>
          <a:stretch/>
        </p:blipFill>
        <p:spPr>
          <a:xfrm>
            <a:off x="4648320" y="2590920"/>
            <a:ext cx="289548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Rockwell"/>
              </a:rPr>
              <a:t>Cross-Cultural Appro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59092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723920" y="259092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282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the influence of cultural and ethnic similarities and differences on psychological and social functio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Flag"/>
          <p:cNvPicPr/>
          <p:nvPr/>
        </p:nvPicPr>
        <p:blipFill>
          <a:blip r:embed="rId1"/>
          <a:stretch/>
        </p:blipFill>
        <p:spPr>
          <a:xfrm>
            <a:off x="1371600" y="2819520"/>
            <a:ext cx="2381400" cy="156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erman%2520flag"/>
          <p:cNvPicPr/>
          <p:nvPr/>
        </p:nvPicPr>
        <p:blipFill>
          <a:blip r:embed="rId2"/>
          <a:stretch/>
        </p:blipFill>
        <p:spPr>
          <a:xfrm>
            <a:off x="5410080" y="2895480"/>
            <a:ext cx="25146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Historical Approaches 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to  Psychology</a:t>
            </a: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ism: elements of the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helm Wundt; introsp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sm: Functions of the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James; angry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ism: Observable Behavi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B. Watson; guaran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alt Approach: sensations vs. Perce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Wertheimer; blinking 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837R-723"/>
          <p:cNvPicPr/>
          <p:nvPr/>
        </p:nvPicPr>
        <p:blipFill>
          <a:blip r:embed="rId1"/>
          <a:stretch/>
        </p:blipFill>
        <p:spPr>
          <a:xfrm>
            <a:off x="380880" y="763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658880" cy="24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7238880" y="4572000"/>
            <a:ext cx="128916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4"/>
          <a:stretch/>
        </p:blipFill>
        <p:spPr>
          <a:xfrm>
            <a:off x="3657600" y="4952880"/>
            <a:ext cx="1144440" cy="1752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traffic_sign_road_sign_arrow_TS01"/>
          <p:cNvPicPr/>
          <p:nvPr/>
        </p:nvPicPr>
        <p:blipFill>
          <a:blip r:embed="rId5"/>
          <a:stretch/>
        </p:blipFill>
        <p:spPr>
          <a:xfrm>
            <a:off x="228600" y="4800600"/>
            <a:ext cx="11415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Women &amp; Minorities in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14400" y="1219320"/>
            <a:ext cx="2133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Ruth Ho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First African-American woman to receive a Ph.D. in psychology (193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136224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calkins"/>
          <p:cNvPicPr/>
          <p:nvPr/>
        </p:nvPicPr>
        <p:blipFill>
          <a:blip r:embed="rId2"/>
          <a:stretch/>
        </p:blipFill>
        <p:spPr>
          <a:xfrm>
            <a:off x="2209680" y="3200400"/>
            <a:ext cx="1089000" cy="1752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3200400"/>
            <a:ext cx="2209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y Calk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hough she completed all of the requirements for a Ph.D., she was denied a doctorate by the Harvard administration because she was a wo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77120" y="1371600"/>
            <a:ext cx="2361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Margaret Washb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st woman to earn a Ph.D. in psychology (19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washburn"/>
          <p:cNvPicPr/>
          <p:nvPr/>
        </p:nvPicPr>
        <p:blipFill>
          <a:blip r:embed="rId3"/>
          <a:stretch/>
        </p:blipFill>
        <p:spPr>
          <a:xfrm>
            <a:off x="5045040" y="1447920"/>
            <a:ext cx="127008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1981080" y="56386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ay, women earn more Ph.D.s in psychology than men, however, in 1991 there were more male full-time psychologists than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657600" y="3429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1920 and 1966, only 8 Ph.D.s were awarded to Black students, compared to 3,767 doctorates to Wh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rom 1892 to 1990, the cumulative membership of the APA was 128,000; 700 African American, 700 Latino, and 70 Native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Areas of 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&amp; Pers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psychology involves the study of social interactions, stereotypes, prejudices, attitudes, conformity, group behaviors, and 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lity psychology involves the study of personality development, personality change, assessment, and abnormal behavi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ines moral, social, emotional, and cognitive development throughout a person’s life 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areas of sensation, perception, learning, human performance, motivation, and emo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s research on the physical &amp; chemical changes that occur during stress, learning, and emo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472428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volves how we process, store, and retrieve information and how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nitive processes influence our behavio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o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ocuses on the measurement of people’s abilities, skills,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ce, personality, and abnormal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Module 2: Psychology &amp; Sc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Psychology4a"/>
          <p:cNvPicPr/>
          <p:nvPr/>
        </p:nvPicPr>
        <p:blipFill>
          <a:blip r:embed="rId1"/>
          <a:stretch/>
        </p:blipFill>
        <p:spPr>
          <a:xfrm>
            <a:off x="2666880" y="1752480"/>
            <a:ext cx="36594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elix Titling"/>
              </a:rPr>
              <a:t>Research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for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rubber-ducks"/>
          <p:cNvPicPr/>
          <p:nvPr/>
        </p:nvPicPr>
        <p:blipFill>
          <a:blip r:embed="rId1"/>
          <a:stretch/>
        </p:blipFill>
        <p:spPr>
          <a:xfrm>
            <a:off x="3809880" y="25146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ystematic, scientific study of behaviors and mental proc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ehaviors = observable actions or responses (ru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ental Processes = not observable (think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Definition of Psych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reading"/>
          <p:cNvPicPr/>
          <p:nvPr/>
        </p:nvPicPr>
        <p:blipFill>
          <a:blip r:embed="rId1"/>
          <a:stretch/>
        </p:blipFill>
        <p:spPr>
          <a:xfrm>
            <a:off x="1143000" y="2666880"/>
            <a:ext cx="2359080" cy="1570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lightbulb%20idea"/>
          <p:cNvPicPr/>
          <p:nvPr/>
        </p:nvPicPr>
        <p:blipFill>
          <a:blip r:embed="rId2"/>
          <a:stretch/>
        </p:blipFill>
        <p:spPr>
          <a:xfrm>
            <a:off x="4952880" y="25909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louds-fire-border-v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pperplate Gothic Light"/>
              </a:rPr>
              <a:t>Goals of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Describ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different ways organisms be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causes of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Predict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ow organisms will behave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Control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an organism’s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sopranos03"/>
          <p:cNvPicPr/>
          <p:nvPr/>
        </p:nvPicPr>
        <p:blipFill>
          <a:blip r:embed="rId2"/>
          <a:stretch/>
        </p:blipFill>
        <p:spPr>
          <a:xfrm>
            <a:off x="3505320" y="4419720"/>
            <a:ext cx="2381040" cy="159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sopranos10102"/>
          <p:cNvPicPr/>
          <p:nvPr/>
        </p:nvPicPr>
        <p:blipFill>
          <a:blip r:embed="rId3"/>
          <a:stretch/>
        </p:blipFill>
        <p:spPr>
          <a:xfrm>
            <a:off x="609480" y="3809880"/>
            <a:ext cx="2667240" cy="152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phrenology-b"/>
          <p:cNvPicPr/>
          <p:nvPr/>
        </p:nvPicPr>
        <p:blipFill>
          <a:blip r:embed="rId4"/>
          <a:stretch/>
        </p:blipFill>
        <p:spPr>
          <a:xfrm>
            <a:off x="6477120" y="3657600"/>
            <a:ext cx="1780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cd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Donna Willi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550800" y="2133720"/>
            <a:ext cx="66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Explain</a:t>
            </a:r>
            <a:r>
              <a:rPr b="1" lang="en-US" sz="2400" spc="-1" strike="noStrike">
                <a:solidFill>
                  <a:srgbClr val="000000"/>
                </a:solidFill>
                <a:latin typeface="Rockwel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genetic and biological factors (Aut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525600" y="2590920"/>
            <a:ext cx="6591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Rockwel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Autistic children usually have diffi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learning in school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: easily overwhelm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066680" y="3505320"/>
            <a:ext cx="1105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-Control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rule to only meet one person at a ti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to avoid being overwhel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1066680" y="1447920"/>
            <a:ext cx="6324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Rockwell"/>
              </a:rPr>
              <a:t>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Rockwell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: Tapping &amp; Twirling fingers to escape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92f4cb48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49568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4f27c663ca"/>
          <p:cNvPicPr/>
          <p:nvPr/>
        </p:nvPicPr>
        <p:blipFill>
          <a:blip r:embed="rId3"/>
          <a:stretch/>
        </p:blipFill>
        <p:spPr>
          <a:xfrm>
            <a:off x="5638680" y="4267080"/>
            <a:ext cx="174312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1b426823a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3520" y="4267080"/>
            <a:ext cx="1323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1cd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Modern Approaches to Psych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5520" y="3886200"/>
            <a:ext cx="4038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analy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ult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Logo%20scienze%20cognitive"/>
          <p:cNvPicPr/>
          <p:nvPr/>
        </p:nvPicPr>
        <p:blipFill>
          <a:blip r:embed="rId1"/>
          <a:stretch/>
        </p:blipFill>
        <p:spPr>
          <a:xfrm>
            <a:off x="762120" y="1295280"/>
            <a:ext cx="2103480" cy="259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hp-symbol"/>
          <p:cNvPicPr/>
          <p:nvPr/>
        </p:nvPicPr>
        <p:blipFill>
          <a:blip r:embed="rId2"/>
          <a:stretch/>
        </p:blipFill>
        <p:spPr>
          <a:xfrm>
            <a:off x="5867280" y="20574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ramond"/>
              </a:rPr>
              <a:t>Biological Approa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95680" y="6126120"/>
            <a:ext cx="76320" cy="122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how our genes, hormones, and nervous system interact w/ our environments to influence learning, personality, memory, motivation, emotions, and coping techn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16002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utistic brain uses the same area to process both objects and human faces; may have trouble distinguishing the two from each 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10"/>
          <p:cNvPicPr/>
          <p:nvPr/>
        </p:nvPicPr>
        <p:blipFill>
          <a:blip r:embed="rId2"/>
          <a:stretch/>
        </p:blipFill>
        <p:spPr>
          <a:xfrm>
            <a:off x="762120" y="3276720"/>
            <a:ext cx="35431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gnitiv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s on how we process, store, and use information and how this information influences what we attend to, perceive, learn, remember, believe, and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na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ism stops me from using my own words when I want to.  Or makes me say silly things I do not want to say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ouque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724280"/>
            <a:ext cx="124308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Breach%20of%20Securit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19520" y="4724280"/>
            <a:ext cx="1312920" cy="167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Briskly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4648320"/>
            <a:ext cx="133956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Becom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77120" y="4648320"/>
            <a:ext cx="1341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0666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al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670572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s how organisms learn new behaviors or modify existing ones, depending on whether events in their environments reward or punish these behav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4f27c663ca"/>
          <p:cNvPicPr/>
          <p:nvPr/>
        </p:nvPicPr>
        <p:blipFill>
          <a:blip r:embed="rId1"/>
          <a:stretch/>
        </p:blipFill>
        <p:spPr>
          <a:xfrm>
            <a:off x="6324480" y="4267080"/>
            <a:ext cx="1743120" cy="23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92f4cb48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0"/>
            <a:ext cx="183852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2590920" y="380880"/>
            <a:ext cx="6019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n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ap suds, no making the fruit in the bowl symmetrical, no lining feet up with furniture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16fb76c18c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8120" y="3886200"/>
            <a:ext cx="132372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1b426823a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58000" y="1752480"/>
            <a:ext cx="13240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analytic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71440" y="426672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hood experiences greatly influence development of later personality traits and psychological problems—also unconscious, fears, desires, and motiv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80880" y="1676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n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ic and abusive mother, absent father which led to “Willie” and “Caro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foster"/>
          <p:cNvPicPr/>
          <p:nvPr/>
        </p:nvPicPr>
        <p:blipFill>
          <a:blip r:embed="rId1"/>
          <a:stretch/>
        </p:blipFill>
        <p:spPr>
          <a:xfrm>
            <a:off x="609480" y="3581280"/>
            <a:ext cx="2210040" cy="250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maginary_friend"/>
          <p:cNvPicPr/>
          <p:nvPr/>
        </p:nvPicPr>
        <p:blipFill>
          <a:blip r:embed="rId2"/>
          <a:stretch/>
        </p:blipFill>
        <p:spPr>
          <a:xfrm>
            <a:off x="4724280" y="1143000"/>
            <a:ext cx="2913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23:48:19Z</dcterms:created>
  <dc:creator>tmacleod</dc:creator>
  <dc:description/>
  <dc:language>en-US</dc:language>
  <cp:lastModifiedBy>hberndt</cp:lastModifiedBy>
  <dcterms:modified xsi:type="dcterms:W3CDTF">2009-01-28T17:32:21Z</dcterms:modified>
  <cp:revision>11</cp:revision>
  <dc:subject/>
  <dc:title>Module 1:  Discovering Psychology</dc:title>
</cp:coreProperties>
</file>